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0A88-2775-4A59-89F6-833967CF01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e added to the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e added to the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ffer solution added to the t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ffer solution added to the t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amples loaded into we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amples loaded into we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current applied to the cha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current applied to the cha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stained using ethidium bro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stained using ethidium bro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on of DNA fragments according to size, based on movement through a gel medium when an electric field is appli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on of DNA fragments according to size, based on movement through a gel medium when an electric field is appli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NA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ut up using restriction endonucl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ut up using restriction endonucl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the gel which the DNA will be put i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the gel which the DNA will be put i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638E-3FDF-40AA-BC0C-57365D14D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B86C-4C23-4054-95BA-07399B62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60A9-B6F8-42E3-B107-8F591540F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F139-5E53-4402-8868-9EF43A10A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48DC-A7CC-411B-82AA-01267903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4B29-3684-48FF-BD91-69BED46C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C09F-4B07-4A52-9E26-025DA442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248E-F6A3-4442-82CE-D585CD38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5806-4B32-4637-BF05-5A495205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CD17-43B4-49C8-9E52-63F3DC38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19D7-EA1D-4570-B576-0C8FD102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1193-148C-48C4-8909-D3007C4A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B399-211B-4AF4-834C-AEF3346AEEF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el electrophore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 Mathi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ye added to the D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1" name="Object 4"/>
          <p:cNvGraphicFramePr/>
          <p:nvPr/>
        </p:nvGraphicFramePr>
        <p:xfrm>
          <a:off x="1476360" y="1700280"/>
          <a:ext cx="619128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00280"/>
                    <a:ext cx="61912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Buffer solution added to the tank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8137440" cy="48960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NA samples loaded into well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" name="Picture 5" descr="gel_plate_600"/>
          <p:cNvPicPr/>
          <p:nvPr/>
        </p:nvPicPr>
        <p:blipFill>
          <a:blip r:embed="rId1"/>
          <a:stretch/>
        </p:blipFill>
        <p:spPr>
          <a:xfrm>
            <a:off x="2268360" y="1314360"/>
            <a:ext cx="4162680" cy="55436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lectrical current applied to the chambe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3" name="Object 4"/>
          <p:cNvGraphicFramePr/>
          <p:nvPr/>
        </p:nvGraphicFramePr>
        <p:xfrm>
          <a:off x="1187280" y="1700280"/>
          <a:ext cx="684072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684072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NA is stained using ethidium bromid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Picture 4" descr="Lab_5_gel_1999"/>
          <p:cNvPicPr/>
          <p:nvPr/>
        </p:nvPicPr>
        <p:blipFill>
          <a:blip r:embed="rId1"/>
          <a:stretch/>
        </p:blipFill>
        <p:spPr>
          <a:xfrm>
            <a:off x="1835280" y="1413000"/>
            <a:ext cx="5329080" cy="52671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paration of DNA fragments according to size, based on movement through a gel medium when an electric field is applied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NA negatively charg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" name="Picture 5" descr="sld002"/>
          <p:cNvPicPr/>
          <p:nvPr/>
        </p:nvPicPr>
        <p:blipFill>
          <a:blip r:embed="rId1"/>
          <a:stretch/>
        </p:blipFill>
        <p:spPr>
          <a:xfrm>
            <a:off x="1187280" y="1484280"/>
            <a:ext cx="6913800" cy="475308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NA cut up using restriction endonucleas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Picture 6" descr="restriction"/>
          <p:cNvPicPr/>
          <p:nvPr/>
        </p:nvPicPr>
        <p:blipFill>
          <a:blip r:embed="rId1"/>
          <a:stretch/>
        </p:blipFill>
        <p:spPr>
          <a:xfrm>
            <a:off x="1042920" y="1989000"/>
            <a:ext cx="6600960" cy="39150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5" descr="f_s02gelelect"/>
          <p:cNvPicPr/>
          <p:nvPr/>
        </p:nvPicPr>
        <p:blipFill>
          <a:blip r:embed="rId1"/>
          <a:stretch/>
        </p:blipFill>
        <p:spPr>
          <a:xfrm>
            <a:off x="1476360" y="0"/>
            <a:ext cx="5616720" cy="64533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ake up the gel which the DNA will be put int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Picture 5" descr="12.jpg"/>
          <p:cNvPicPr/>
          <p:nvPr/>
        </p:nvPicPr>
        <p:blipFill>
          <a:blip r:embed="rId1"/>
          <a:stretch/>
        </p:blipFill>
        <p:spPr>
          <a:xfrm>
            <a:off x="900000" y="1484280"/>
            <a:ext cx="7775640" cy="49672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Picture 9" descr="sld008"/>
          <p:cNvPicPr/>
          <p:nvPr/>
        </p:nvPicPr>
        <p:blipFill>
          <a:blip r:embed="rId1"/>
          <a:stretch/>
        </p:blipFill>
        <p:spPr>
          <a:xfrm>
            <a:off x="1187280" y="836640"/>
            <a:ext cx="6897960" cy="517356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Picture 5" descr="sld009"/>
          <p:cNvPicPr/>
          <p:nvPr/>
        </p:nvPicPr>
        <p:blipFill>
          <a:blip r:embed="rId1"/>
          <a:stretch/>
        </p:blipFill>
        <p:spPr>
          <a:xfrm>
            <a:off x="395280" y="333360"/>
            <a:ext cx="8265960" cy="61992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" name="Picture 5" descr="sld010"/>
          <p:cNvPicPr/>
          <p:nvPr/>
        </p:nvPicPr>
        <p:blipFill>
          <a:blip r:embed="rId1"/>
          <a:stretch/>
        </p:blipFill>
        <p:spPr>
          <a:xfrm>
            <a:off x="826920" y="333360"/>
            <a:ext cx="7920360" cy="619272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0T21:12:08Z</dcterms:created>
  <dc:creator>Matis</dc:creator>
  <dc:description/>
  <dc:language>en-US</dc:language>
  <cp:lastModifiedBy>LEGION2</cp:lastModifiedBy>
  <dcterms:modified xsi:type="dcterms:W3CDTF">2016-01-12T10:37:34Z</dcterms:modified>
  <cp:revision>11</cp:revision>
  <dc:subject/>
  <dc:title>Gel electrophoresis and DNA sequencing</dc:title>
</cp:coreProperties>
</file>